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D9B-40C6-40CF-BC89-157106CD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A70-6703-46E7-9E3A-CC253237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E08-7D50-40B2-BE34-1E4F3D94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C3EE-F5EA-4B60-92CD-85E91A43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E87D-49E9-4EF9-82D3-AD48C359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E33-A062-4BB5-A262-A8FAE841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452-16CB-4CBC-B28F-AFA9BD02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8CB9-1150-4DAA-A27A-66A426B4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7F7-4701-45AD-8339-3106100D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5B2-6830-4BC6-ACA8-F432842B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B04-381D-4210-8C99-A7FED1B4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FFE5-CFA0-4EEF-96AE-628FB68A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0B55-8C8E-4713-BA60-7CFF18DD602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684360" y="1052640"/>
            <a:ext cx="3409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09-06T11:32:29Z</dcterms:modified>
  <cp:revision>800</cp:revision>
  <dc:subject/>
  <dc:title>Free PPT Backgrounds</dc:title>
</cp:coreProperties>
</file>